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586A-9719-4BF3-BD9A-135ED5364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2CC1-471F-4641-9E90-0D645CFE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20E9-BFCC-4C60-AE5D-B24FA564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FEC0-CFC5-4497-877C-1DC1EC23B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993A-B8FF-4AC8-BDBA-9E11A97B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1928-D7BB-4F64-8AC8-EF01C84D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593B-A6B2-48E4-BA62-626722F4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2F12-285E-4ABD-939A-32685B7F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FE45-48B8-4171-A420-73C957CA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F44B-9D44-4C75-87E9-A15E11DA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00C3-EE16-4737-B7C9-AF6C972D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EE4E-FDDE-4F24-816A-21BF21F0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5C5B-05F6-44C1-8A9D-5F951C0825C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o 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Benjamin Zephani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000" y="1484280"/>
            <a:ext cx="237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tereotyping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rejudice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43280" y="1484280"/>
            <a:ext cx="61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eating people according to false assumptions based on a widely held but oversimplified image or idea of their ‘type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slike or hostility based on a preconceived opinion rather than actual exper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Jane Klima</cp:lastModifiedBy>
  <dcterms:modified xsi:type="dcterms:W3CDTF">2014-11-16T21:31:15Z</dcterms:modified>
  <cp:revision>61</cp:revision>
  <dc:subject/>
  <dc:title>La Belle Dame Sans Merci</dc:title>
</cp:coreProperties>
</file>